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69B-E67F-4906-B68E-90856D7C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71B-004D-4559-A2FA-2687A5ED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AFF-4A4E-4FE2-91C3-9E4D163C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1E8-E8DB-4AE1-B14B-03FEC1D2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3AF-F565-4D6B-96D8-1E1AE384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EC3B-35CB-4DD5-A494-7ECF71B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D8EB-205B-4915-AA49-3A516EF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7C1-E377-498B-94A0-BCD8452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22AC-0DD5-490C-BC77-62635E19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3D7-3447-4083-9DF6-4BECCFAF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A59-B917-480E-9647-CBA002C0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8AD-86D8-4A9C-8911-CBA8C09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A00-3209-4D21-8880-59C855A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8A0C-48EC-41A2-9E3C-88ADAB9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2C46-B8DF-4797-A094-991EA44E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82C-2110-4EA6-9625-B6183224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747-47F6-4BDA-9FC7-C537F3BA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F6C-F355-41DC-89D2-E7B2452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7B3-CBE8-415F-8B7E-6EFA431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60C-6341-4E73-A925-4D35CE9D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B7F-CA8F-4129-AE8C-CAB2A9C3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31D-D334-40DF-ABC0-B5D4986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AA9-38E7-43D6-BAF1-D8DFE289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211-06FC-4538-AB6C-908724D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556-D77E-4B0E-B3B9-696F1D17C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89AD-78A8-469A-AD5E-3C5D34148DE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Tahoma"/>
              </a:rPr>
              <a:t>Chapter 19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Tahoma"/>
              </a:rPr>
              <a:t>TOWARD AN URBAN SOCIETY, 1877–1900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merica Past and Pres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ighth Ed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Bra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ind Begg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Blind Beggar"/>
          <p:cNvPicPr/>
          <p:nvPr/>
        </p:nvPicPr>
        <p:blipFill>
          <a:blip r:embed="rId1"/>
          <a:stretch/>
        </p:blipFill>
        <p:spPr>
          <a:xfrm>
            <a:off x="1762200" y="1600200"/>
            <a:ext cx="56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ve Cent Lodging, Bayard Street, 188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6" descr="Riis, Five Cents Lodging"/>
          <p:cNvPicPr/>
          <p:nvPr/>
        </p:nvPicPr>
        <p:blipFill>
          <a:blip r:embed="rId1"/>
          <a:stretch/>
        </p:blipFill>
        <p:spPr>
          <a:xfrm>
            <a:off x="1770120" y="1600200"/>
            <a:ext cx="560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owntown “Morgu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“Unlicensed Saloon”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6" descr="Morgue"/>
          <p:cNvPicPr/>
          <p:nvPr/>
        </p:nvPicPr>
        <p:blipFill>
          <a:blip r:embed="rId1"/>
          <a:stretch/>
        </p:blipFill>
        <p:spPr>
          <a:xfrm>
            <a:off x="1762200" y="1600200"/>
            <a:ext cx="56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e Station Lodger and B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Riis, Plank for a Bed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iting for Lodging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Police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6" descr="Waiting for the Lodging"/>
          <p:cNvPicPr/>
          <p:nvPr/>
        </p:nvPicPr>
        <p:blipFill>
          <a:blip r:embed="rId1"/>
          <a:stretch/>
        </p:blipFill>
        <p:spPr>
          <a:xfrm>
            <a:off x="2590920" y="1447920"/>
            <a:ext cx="429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men’s Lodging Roo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West 47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t.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Women's Lodging Room"/>
          <p:cNvPicPr/>
          <p:nvPr/>
        </p:nvPicPr>
        <p:blipFill>
          <a:blip r:embed="rId1"/>
          <a:stretch/>
        </p:blipFill>
        <p:spPr>
          <a:xfrm>
            <a:off x="1523880" y="1600200"/>
            <a:ext cx="62578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n’s Lodging Roo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West 47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t.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6" descr="Men's Lodging Room"/>
          <p:cNvPicPr/>
          <p:nvPr/>
        </p:nvPicPr>
        <p:blipFill>
          <a:blip r:embed="rId1"/>
          <a:stretch/>
        </p:blipFill>
        <p:spPr>
          <a:xfrm>
            <a:off x="1447920" y="1652760"/>
            <a:ext cx="633384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ddler's Cellar B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Pedlars Who Slept in the Cellar"/>
          <p:cNvPicPr/>
          <p:nvPr/>
        </p:nvPicPr>
        <p:blipFill>
          <a:blip r:embed="rId1"/>
          <a:stretch/>
        </p:blipFill>
        <p:spPr>
          <a:xfrm>
            <a:off x="1714680" y="1600200"/>
            <a:ext cx="57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berry Be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Mulberry Bend"/>
          <p:cNvPicPr/>
          <p:nvPr/>
        </p:nvPicPr>
        <p:blipFill>
          <a:blip r:embed="rId1"/>
          <a:stretch/>
        </p:blipFill>
        <p:spPr>
          <a:xfrm>
            <a:off x="1371600" y="1689120"/>
            <a:ext cx="65055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Boys Learn on Their Street Playground (ca.190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Street Playground"/>
          <p:cNvPicPr/>
          <p:nvPr/>
        </p:nvPicPr>
        <p:blipFill>
          <a:blip r:embed="rId1"/>
          <a:stretch/>
        </p:blipFill>
        <p:spPr>
          <a:xfrm>
            <a:off x="1771560" y="1600200"/>
            <a:ext cx="560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ure of the 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ity becomes a symbol of the new America between 1870–19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osive urban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rces included immigration, movement from countrys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x cities over 500,000 by 190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angers in a New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0: 15% of U.S. population was foreign-bo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immigrants moved for economic reasons and entered through Ellis Is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1900, most urban dwellers foreign-born or children of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80s: Eastern, southern European immigrants prompt resurgent Nativ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tion to the United States, 1870–19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6" descr="DIVI386"/>
          <p:cNvPicPr/>
          <p:nvPr/>
        </p:nvPicPr>
        <p:blipFill>
          <a:blip r:embed="rId1"/>
          <a:stretch/>
        </p:blipFill>
        <p:spPr>
          <a:xfrm>
            <a:off x="1371600" y="1828800"/>
            <a:ext cx="624852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eign-born Population, 189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7" descr="DIVI7233398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Content Placeholder 3" descr="comic3.jpeg"/>
          <p:cNvPicPr/>
          <p:nvPr/>
        </p:nvPicPr>
        <p:blipFill>
          <a:blip r:embed="rId1"/>
          <a:srcRect l="-44184" t="0" r="-44184" b="0"/>
          <a:stretch/>
        </p:blipFill>
        <p:spPr>
          <a:xfrm>
            <a:off x="457200" y="7621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nts and the City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milies and Ethnic Ident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s marry within own ethnic grou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children born to immigrants than to native-born Americ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 associa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erve old country language and custo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id the process of adjus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s establish religious, educational institutions, media which preserve cultural trad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House That Tweed Bui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 party machines headed by “boss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bosses notoriously corrupt, e.g. William Tweed of New York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trade services for vot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bosses stayed in pow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organizational ski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lped immigra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bosses improve conditions in c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Content Placeholder 3" descr="tweed.jpeg"/>
          <p:cNvPicPr/>
          <p:nvPr/>
        </p:nvPicPr>
        <p:blipFill>
          <a:blip r:embed="rId1"/>
          <a:srcRect l="-25095" t="0" r="-25095" b="0"/>
          <a:stretch/>
        </p:blipFill>
        <p:spPr>
          <a:xfrm>
            <a:off x="533520" y="6858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rban and Rural Population, 1870–1900 (in millio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6" descr="DIVI391"/>
          <p:cNvPicPr/>
          <p:nvPr/>
        </p:nvPicPr>
        <p:blipFill>
          <a:blip r:embed="rId1"/>
          <a:stretch/>
        </p:blipFill>
        <p:spPr>
          <a:xfrm>
            <a:off x="1905120" y="1905120"/>
            <a:ext cx="510516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ners and Mo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ctorian morality dictates dress, mann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stant religious values stron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 underpinned by Protestantism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isure and Entertai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mestic leisure: card, parlor, yard ga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timental ballads, ragtime popu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ertainment outside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ircus immensely pop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ball, football, basketbal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eet lights, streetcars make evening a time for entertainment and pleas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nements and th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blems of Overcrow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ements house working c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mes Ware and dumbbell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ement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crow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adequate sani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venti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luted wat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public heal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venile crim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nges in Family Lif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2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ization, industrialization alter famil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mily life virtually disappears among poorly paid working c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burban commute takes fathers from middle-class h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mesticity encouraged, women housebound, child-oriented consum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ite middle-class birth rates dec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ng the M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rpose of public education was to train people for life and work in industrial socie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ing unimaginative, learning passive,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bster’s Speller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McGuffey’s Read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ion, poverty compound problems of Southern 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6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Plessy v. Ferguso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ows "separate but equal" school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gher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leges and universities flouri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ater emphasis on professions, re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women achieve college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gher Education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rican America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48960"/>
            <a:ext cx="8229600" cy="55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rican Americans usually confined to all-black institutions like Tuskegee Institute in Alab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ker T. Washington and the practice of accommod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ntrate on practical 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.E.B. DuBois: Demand quality, integrated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tirrings of Ref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Darwinists see attempts at social reform as useless and harmfu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ers begin to seek changes in U.S. living, working 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gress and 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George:  The rich getting richer, the poor, po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rge’s solution:  Tax land, wealth’s  sourc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Currents in Social Thou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8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arence Darrow rejected Social Darwinism, argued poverty at crime’s roo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chard T. Ely’s “Younger Economics” urged government intervention in economic aff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rstein Veblen’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heory of the Leisure Clas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sserted that classic economic “laws” were masks for human gre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eral Protestants preach "Social Gospel"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:  Reform industrial socie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:  Introduce Christian standards into  economic sp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ettlement Ho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mous Hou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86: Stanton Coit’s Neighborhood Guild,  New Yor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89: Jane Addams' Hull House, Chica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2: Robert A. Woods’ South End House, Bos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3: Lillian Wald’s Henry Street Settlement, New Y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workers wo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assical, practical education for p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social composition of neighborh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Crisis in Social Welf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ression of 1893 reveals insufficiency of private charit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professionalism in social 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efforts to understand poverty’s 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ing calls for government interven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tensions engender sense of cri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luralistic Soc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igration and urban growth reshaped American politics and cul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1920, most Americans lived in cities and almost half of them were descendants of people who arrived after the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ety experienced a crisis between 1870 and 19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ers turned to state and federal government for remedies to social il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 Riis: Photograph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9" descr="USAriis"/>
          <p:cNvPicPr/>
          <p:nvPr/>
        </p:nvPicPr>
        <p:blipFill>
          <a:blip r:embed="rId1"/>
          <a:stretch/>
        </p:blipFill>
        <p:spPr>
          <a:xfrm>
            <a:off x="3352680" y="1600200"/>
            <a:ext cx="29527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ndit’s Roos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59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/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ulberry Street (Ca. 1888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6" descr="Riis, Bandit's Roost"/>
          <p:cNvPicPr/>
          <p:nvPr/>
        </p:nvPicPr>
        <p:blipFill>
          <a:blip r:embed="rId1"/>
          <a:stretch/>
        </p:blipFill>
        <p:spPr>
          <a:xfrm>
            <a:off x="2755800" y="1600200"/>
            <a:ext cx="363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alian Rag Picker (188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6" descr="Riis, Italian Ragpicker"/>
          <p:cNvPicPr/>
          <p:nvPr/>
        </p:nvPicPr>
        <p:blipFill>
          <a:blip r:embed="rId1"/>
          <a:stretch/>
        </p:blipFill>
        <p:spPr>
          <a:xfrm>
            <a:off x="1803240" y="1600200"/>
            <a:ext cx="55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len’s Alley, Cherry H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6" descr="Mullen's Alley"/>
          <p:cNvPicPr/>
          <p:nvPr/>
        </p:nvPicPr>
        <p:blipFill>
          <a:blip r:embed="rId1"/>
          <a:stretch/>
        </p:blipFill>
        <p:spPr>
          <a:xfrm>
            <a:off x="2424240" y="1523880"/>
            <a:ext cx="4333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ub Basement, Mulberry Bend, 3:00 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6" descr="Riis, Basement Pub"/>
          <p:cNvPicPr/>
          <p:nvPr/>
        </p:nvPicPr>
        <p:blipFill>
          <a:blip r:embed="rId1"/>
          <a:stretch/>
        </p:blipFill>
        <p:spPr>
          <a:xfrm>
            <a:off x="1139760" y="1600200"/>
            <a:ext cx="686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and Tan “Dive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6" descr="Black-and-Tan Dive"/>
          <p:cNvPicPr/>
          <p:nvPr/>
        </p:nvPicPr>
        <p:blipFill>
          <a:blip r:embed="rId1"/>
          <a:stretch/>
        </p:blipFill>
        <p:spPr>
          <a:xfrm>
            <a:off x="1790640" y="1600200"/>
            <a:ext cx="556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0T09:42:06Z</dcterms:created>
  <dc:creator>HstM3</dc:creator>
  <dc:description/>
  <cp:keywords/>
  <dc:language>en-US</dc:language>
  <cp:lastModifiedBy>Matthew Myers</cp:lastModifiedBy>
  <cp:lastPrinted>2012-09-11T10:32:31Z</cp:lastPrinted>
  <dcterms:modified xsi:type="dcterms:W3CDTF">2012-01-03T13:20:00Z</dcterms:modified>
  <cp:revision>12</cp:revision>
  <dc:subject/>
  <dc:title>TOWARD AN URBAN SOCIETY, 1877-1900</dc:title>
</cp:coreProperties>
</file>